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5FFB0-CF9F-449F-AD71-6C2AC0D7F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CBBFC-43D2-40C3-B706-D334BC4E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30855-122D-4D8D-863A-E0741D538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E7395-91FD-43C6-A61B-13E214992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775D5-B5CC-40F2-96EA-9A95C8425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86A2-7E87-4604-960B-FC9DB0DF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AA63-91C8-4110-AF9E-ABB170516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9DD46-7A2B-4E04-A51A-D9B611908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2CD18-3AF4-4443-AFB4-3DBC2BA6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0408-B6FA-4C10-B68A-2534ABEF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33BF-19C9-4D12-AECC-EAC4D3839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8B6BA-9B7C-4A96-A10A-2A356FBD0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3FDE-8B75-4B0C-8C6E-092D6CB58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920"/>
            <a:ext cx="7772400" cy="27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Visualizing and Verbalizing in Reading</a:t>
            </a:r>
            <a:br>
              <a:rPr sz="5400"/>
            </a:br>
            <a:r>
              <a:rPr b="0" lang="en-US" sz="5400" spc="-1" strike="noStrike">
                <a:solidFill>
                  <a:srgbClr val="000000"/>
                </a:solidFill>
                <a:latin typeface="Arial Rounded MT Bold"/>
              </a:rPr>
              <a:t>Amber Fetherolf</a:t>
            </a:r>
            <a:br>
              <a:rPr sz="5400"/>
            </a:br>
            <a:r>
              <a:rPr b="0" lang="en-US" sz="5400" spc="-1" strike="noStrike">
                <a:solidFill>
                  <a:srgbClr val="000000"/>
                </a:solidFill>
                <a:latin typeface="Arial Rounded MT Bold"/>
              </a:rPr>
              <a:t>October 12, 20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all these strategies that can be used in teaching, children are able to fully understand the texts that they rea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eing the images in their heads, students are able to completely comprehend the reading and communicate their understanding of the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itions students from just reading the texts to becoming effective </a:t>
            </a:r>
            <a:r>
              <a:rPr b="0" i="1" lang="en-US" sz="2800" spc="-1" strike="noStrike">
                <a:solidFill>
                  <a:srgbClr val="000000"/>
                </a:solidFill>
                <a:latin typeface="Arial"/>
              </a:rPr>
              <a:t>r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ing helps with comprehension as we better understand the text through the pictures we create in our heads. As we learn to visualize, we are able to verbalize our understanding or comprehension of the tex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es, C. &amp; Wood, K.</a:t>
            </a:r>
            <a:br>
              <a:rPr sz="4000"/>
            </a:br>
            <a:r>
              <a:rPr b="0" lang="en-US" sz="4000" spc="-1" strike="noStrike">
                <a:solidFill>
                  <a:srgbClr val="000000"/>
                </a:solidFill>
                <a:latin typeface="Arial"/>
              </a:rPr>
              <a:t> </a:t>
            </a:r>
            <a:r>
              <a:rPr b="0" lang="en-US" sz="3200" spc="-1" strike="noStrike">
                <a:solidFill>
                  <a:srgbClr val="000000"/>
                </a:solidFill>
                <a:latin typeface="Arial"/>
              </a:rPr>
              <a:t>(2005-200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ing has to do with the whole picture, not just parts. In order for a student to understand the whole picture, they may have to relate it to their senses to comprehend the image as a whole.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P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Elaborate, Predict, and Confirm</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l, Nanci </a:t>
            </a:r>
            <a:br>
              <a:rPr sz="4000"/>
            </a:br>
            <a:r>
              <a:rPr b="0" lang="en-US" sz="3200" spc="-1" strike="noStrike">
                <a:solidFill>
                  <a:srgbClr val="000000"/>
                </a:solidFill>
                <a:latin typeface="Arial"/>
              </a:rPr>
              <a:t>(1991)</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gives the student choices as they described their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and clarifying questions about the reading helps them to better understand what they are seeing in their heads and the text as a who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990720"/>
            <a:ext cx="8229600" cy="4525920"/>
          </a:xfrm>
          <a:prstGeom prst="rect">
            <a:avLst/>
          </a:prstGeom>
          <a:noFill/>
          <a:ln w="0">
            <a:noFill/>
          </a:ln>
        </p:spPr>
        <p:txBody>
          <a:bodyPr lIns="90000" rIns="90000" tIns="46800" bIns="46800"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The dog is running over the hill.</a:t>
            </a:r>
            <a:r>
              <a:rPr b="0" lang="en-US"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56840"/>
            <a:ext cx="4038480" cy="5668920"/>
          </a:xfrm>
          <a:prstGeom prst="rect">
            <a:avLst/>
          </a:prstGeom>
          <a:noFill/>
          <a:ln w="0">
            <a:noFill/>
          </a:ln>
        </p:spPr>
        <p:txBody>
          <a:bodyPr lIns="90000" rIns="90000" tIns="46800" bIns="46800"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ize</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lor </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umber</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hape</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re</a:t>
            </a:r>
            <a:endParaRPr b="0" lang="en-US" sz="4800" spc="-1" strike="noStrike">
              <a:solidFill>
                <a:srgbClr val="000000"/>
              </a:solidFill>
              <a:latin typeface="Arial"/>
            </a:endParaRPr>
          </a:p>
        </p:txBody>
      </p:sp>
      <p:sp>
        <p:nvSpPr>
          <p:cNvPr id="49" name="PlaceHolder 2"/>
          <p:cNvSpPr>
            <a:spLocks noGrp="1"/>
          </p:cNvSpPr>
          <p:nvPr>
            <p:ph/>
          </p:nvPr>
        </p:nvSpPr>
        <p:spPr>
          <a:xfrm>
            <a:off x="4648320" y="456840"/>
            <a:ext cx="4038480" cy="5668920"/>
          </a:xfrm>
          <a:prstGeom prst="rect">
            <a:avLst/>
          </a:prstGeom>
          <a:noFill/>
          <a:ln w="0">
            <a:noFill/>
          </a:ln>
        </p:spPr>
        <p:txBody>
          <a:bodyPr lIns="90000" rIns="90000" tIns="46800" bIns="46800"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vement</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od</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ckground</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erspective</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n</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ou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ntas, I., Lyons C., Pinnell, G., &amp; Scharer, P. </a:t>
            </a:r>
            <a:r>
              <a:rPr b="0" lang="en-US" sz="3200" spc="-1" strike="noStrike">
                <a:solidFill>
                  <a:srgbClr val="000000"/>
                </a:solidFill>
                <a:latin typeface="Arial"/>
              </a:rPr>
              <a:t>(2005)</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Read alou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reads a story that draws all students inter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sks questions about the story to enhance class discu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may make predictions about the s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to get a better picture in their heads by collaborating with their p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990360"/>
            <a:ext cx="8229600" cy="551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tudents can decode words, but cannot comprehend them because they cannot visualize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The fat cat chased the do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different strategies used for helping students to visualize and verbali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estioning, Sensory activities, Read Alou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838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only fully understand the text by creating pictures in our h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eachers, we must use visualization in all aspects of reading to ensure that our students are comprehending fu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1:57:18Z</dcterms:created>
  <dc:creator>User</dc:creator>
  <dc:description/>
  <dc:language>en-US</dc:language>
  <cp:lastModifiedBy>User</cp:lastModifiedBy>
  <dcterms:modified xsi:type="dcterms:W3CDTF">2010-10-12T04:54:56Z</dcterms:modified>
  <cp:revision>41</cp:revision>
  <dc:subject/>
  <dc:title>Visualizing and Verbalizing in Reading</dc:title>
</cp:coreProperties>
</file>